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327-035B-4C71-ABCC-3C6B0BEB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337-9066-4529-B9AF-6E6509E0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ECC-6E22-43C0-9B39-3D957E1A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BF3-7F1A-4972-9A98-3AE53823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CE64-4567-4657-B040-07106E90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FFC2-2FFA-4B9F-A2F9-442FE203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75EA-82E8-4407-99D4-FCDB7B75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9C27-61B5-4B8C-B928-68F05A5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4B57-970C-4045-833D-5140B50B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A5D4-55BA-4A36-9975-99FC6E52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E698-690E-4357-8066-B073D57C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42A-4359-48B1-A446-9D71C37C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2CBE-6ED5-4C37-9968-DCFD1C7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4719-24C1-40DF-A353-E9255996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A1D0-AD7E-460E-B932-5D3DC65B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43AA-6C13-4666-884A-C5765009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A135-B652-4CDF-BCCC-23A659BE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2E3-0037-419F-A7AD-8998776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45B-983B-45F7-A33B-993F5C59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BB9-FBFA-4D74-9C0F-B38F55AA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680-F6F7-4B94-B19C-0EF082A7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E23-53A6-4081-AC33-A12FA84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52B-13C0-436D-8BFC-EA68B0B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6A2-47BB-4A52-AF91-DCB6A465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7795-67D5-4D0D-8322-08784D6D4D8C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4D44-0472-4312-B69D-F353E59DCDAA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Windows Movie Maker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/6-12/Session 3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video effects and audio have enhanced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Why did you make these particular choice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observed how title sequences, video effects, and transitions can add to or subtract from the overall impact of a movie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import audio and add audio effects in </a:t>
            </a:r>
            <a:r>
              <a:rPr b="0" lang="en-US" sz="32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hare our movies with other peop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we add video effects to our movie clip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udio, whether it is from a CD, or a computer recording has the ability to enhance dramatic moments in a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ce a movie is created there are many different methods of distribu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can b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played on a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nt via emai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ewed on a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urned on a DV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deo effects can be used to alter a clip. Effects can be used to alter the speed of the clip, add special effects to the clip, or turn a clip to black and whit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audio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icrophone (built into the computer or externa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C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mporting audio into </a:t>
            </a: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effe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the movie in a format everyone can view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specific instru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    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Take the next 30 minutes to import still images. Add titles, video effects (if necessary) and transitions to your movies. After 30 minutes we will come back together and shar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digital pictures into Movie Maker and include two pictures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video effects, titles, and transition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Movie Maker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hare (export) your Movie Maker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11T18:39:28Z</dcterms:modified>
  <cp:revision>20</cp:revision>
  <dc:subject/>
  <dc:title>Workshop Title</dc:title>
</cp:coreProperties>
</file>